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9.wmf" ContentType="image/x-wmf"/>
  <Override PartName="/ppt/media/image11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5.wmf" ContentType="image/x-wmf"/>
  <Override PartName="/ppt/media/image27.jpeg" ContentType="image/jpeg"/>
  <Override PartName="/ppt/media/image37.jpeg" ContentType="image/jpeg"/>
  <Override PartName="/ppt/media/image28.wmf" ContentType="image/x-wmf"/>
  <Override PartName="/ppt/media/image6.wmf" ContentType="image/x-wmf"/>
  <Override PartName="/ppt/media/image34.jpeg" ContentType="image/jpeg"/>
  <Override PartName="/ppt/media/image31.wmf" ContentType="image/x-wmf"/>
  <Override PartName="/ppt/media/image7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793-BD01-462C-8D0D-BF8F13EA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0A5-8B9F-4462-8410-5824DF13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66C-7CC3-4F79-AA2D-64EDC6F2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830-46CF-4B96-99A1-B93997C4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9460-CCA8-4CD1-B589-556C3071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C8ED-AF8E-44DA-8A61-01AB20A7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1B87-0C83-492C-AE9F-49751BC5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4FB6-2016-41A7-929C-E83290ED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D087-8F6E-435A-9E5C-7964E7D6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2C20-0EED-42C3-82C9-17E0E6F1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793C-7D40-42BD-98C0-57950F74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7CE-BF47-44FB-B327-3D6CFAF3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2B63-69C9-4392-9B8A-60C2416B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CC9F-67A0-48E0-B902-F463A601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2EFD-3417-4B89-AF91-DCAFA841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EBEA-B965-4B6F-BC4C-DF00BCA5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0E89-E831-48C9-895D-01E6D330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955-651D-4AC5-BBDF-9BFBA9AB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52C-E036-4D50-8733-4BB7E34F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8ED-1A07-4D51-BE11-0E6B33ED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93D-7853-4420-AA4A-1FD625A7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E14-9AEC-4556-9860-ACB5EFE0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D13-2B57-4EA2-9A27-C0FEC4EC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634-CABE-4B40-ACF3-6B75E18F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B108-3DB0-49F9-B9B8-04391CE44B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F4D1-9739-4543-B84F-D3622CE4EA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0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0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0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2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rrors and Le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herical Aber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s are generally assumed to make small angles with the mi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rays make large angles, they may converge to points other than the image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sults in a blurred im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effect is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herical aber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5640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mage Formed by a Concave Mirr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ometry can be used to determine the magnification of the im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’ is negative when the image is inverted with respect to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41720" y="3489480"/>
          <a:ext cx="252720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3489480"/>
                    <a:ext cx="25272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mage Formed by a Concave Mirr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ometry shows the relationship between the image and object dist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alled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rror eq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03400" y="4383000"/>
          <a:ext cx="1704960" cy="9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4383000"/>
                    <a:ext cx="170496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998880" y="2514600"/>
            <a:ext cx="499284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cal Leng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4459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n object is very far away, then p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1/p =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oming rays are essentially parall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is special case, the image point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ocal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stance from the mirror to the focal point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ocal l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ocal length is ½ the radius of curv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81480" y="838080"/>
            <a:ext cx="3419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cal Point and Focal Length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ocal point is dependent solely on the curvature of the mirror, not by the location of the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 = R /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irror equation can be expressed 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82800" y="5162400"/>
          <a:ext cx="233028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2800" y="5162400"/>
                    <a:ext cx="233028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cal Length Shown by Parallel Ray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2055960"/>
            <a:ext cx="77724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vex Mirr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convex mirror is sometimes called a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iverging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rr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rays from any point on the object diverge after reflection as though they were coming from some point behind the mirror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image is virtual because it lies behind the mirror at the point where the reflected rays appear to origin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 general, the image formed by a convex mirror is upright, virtual, and smaller than the obje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mage Formed by a Convex Mirr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81532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gn Conventions for Mirr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320" y="2514600"/>
            <a:ext cx="896616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y Diagram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ay diagra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be used to determine the position and size of an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graphical constructions which tell the overall nature of the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can also be used to check the parameters calculated from the mirror and magnification equ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ation for Mirrors and Len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object dista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s the distance from the object to the mirror or le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noted b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mage dista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s the distance from the image to the mirror or le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ages are formed at the point where rays actually intersect or appear to origin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noted b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ateral magnific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the mirror or lens is the ratio of the image height to the object he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noted by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rawing A Ray Diagra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make the ray diagram, you need to kn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sition of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sition of the center of curv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rays are dra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all start from the same position on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tersection of any two of the rays at a point locates the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hird ray serves as a check of the co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Rays in a Ray Diagra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y 1 is drawn parallel to the principle axis and is reflected back through the focal point, 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y 2 is drawn through the focal point and is reflected parallel to the principle 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y 3 is drawn through the center of curvature and is reflected back on itse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About the Ray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ys actually go in all directions from the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hree rays were chosen for their ease of constru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mage point obtained by the ray diagram must agree with the value of q calculated from the mirror eq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y Diagram for Concave Mirror, p &gt; 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bject is outside the center of curvature of the mi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mage is re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mage is inver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mage is smaller than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47676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y Diagram for a Concave Mirror, p &lt; 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bject is between the mirror and the focal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mage is virt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mage is up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mage is larger than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9320" y="1890720"/>
            <a:ext cx="67816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y Diagram for a Convex Mirr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is in front of a convex mirr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virt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upr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smaller than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on Imag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a concave mirror, the image may be either real or virt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object is outside the focal point, the image is re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object is at the focal point, the image is infinitely far aw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object is between the mirror and the focal point, the image is virt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a convex mirror, the image is always virtual and upr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object distance increases, the virtual image gets sma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mages Formed by Refr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s originate from the object point, O, and pass through the image point, 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gt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l images are formed on the side opposite from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312920" y="3913200"/>
          <a:ext cx="232416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2920" y="3913200"/>
                    <a:ext cx="232416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8402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gn Conventions for Refracting Surfac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01520" y="2438280"/>
            <a:ext cx="89661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at Refracting Surfa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mage formed by a flat refracting surface is on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ide of the surface as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mage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mage forms between the object and the su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ays bend away from the normal sinc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&gt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925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Images for Mirrors and Len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al ima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one in which light actually passes through the image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l images can be displayed on scree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ma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one in which the light does not pass through the image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ght appears to diverge from that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rtual images cannot be displayed on scree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tmospheric Refr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many interesting results of refraction in the atmosphe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n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r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tmospheric Refraction and Sunse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ght rays from the sun are bent as they pass into the atmosphe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t is a gradual bend because the light passes through layers of the atmosphe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ach layer has a slightly different index of refrac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Sun is seen to be above the horizon even after it has fallen below 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379760" y="2590920"/>
            <a:ext cx="461196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tmospheric Refraction and Mirag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irage can be observed when the air above the ground is warmer than the air at higher elev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ys in path B are directed toward the ground and then bent by ref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bserver sees both an upright and an inverted im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22560" y="2286000"/>
            <a:ext cx="51451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in Len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thin lens consists of a piece of glass or plastic, ground so that each of its two refracting surfaces is a segment of either a sphere or a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nses are commonly used to form images by refraction in optical instru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in Lens Shap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are examples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verg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have positive focal leng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thickest in the mid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998880" y="2251080"/>
          <a:ext cx="484020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8880" y="2251080"/>
                    <a:ext cx="484020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Thin Lens Shap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are examples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verg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have negative focal leng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thickest at the ed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809880" y="2209680"/>
          <a:ext cx="472464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472464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cal Length of Len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cal length, ƒ, is the image distance that corresponds to an infinite object d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same as for mi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hin lens has two focal points, corresponding to parallel rays from the left and from the r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hin lens is one in which the distance between the surface of the lens and the center of the lens is neglig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cal Length of a Converging Le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rallel rays pass through the lens and converge at the focal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rallel rays can come from the left or right of the l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95880" y="1905120"/>
            <a:ext cx="279108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0" y="1905120"/>
          <a:ext cx="5867280" cy="204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586728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cal Length of a Diverging Le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28600" y="1981080"/>
          <a:ext cx="50925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50925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rallel rays diverge after passing through the diverging l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cal point is the point where the rays appear to have origin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266688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s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geometric derivation of the equations is very similar to that of mi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955800" y="4267080"/>
          <a:ext cx="24159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5800" y="4267080"/>
                    <a:ext cx="24159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038480" y="2514600"/>
            <a:ext cx="48006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Imag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find where an image is formed, it is always necessary to follow at least two rays of light as they reflect from the mi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s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quations can be used for both converging and diverging le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nverging lens has a positive focal 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iverging lens has a negative focal 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gn Conventions for Thin Len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01520" y="2743200"/>
            <a:ext cx="896616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cal Length for a Le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cal length of a lens is related to the curvature of its front and back surfaces and the index of refraction of the mater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ens maker’s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874880" y="3809880"/>
          <a:ext cx="4405320" cy="14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4880" y="3809880"/>
                    <a:ext cx="440532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y Diagrams for Thin Len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y diagrams are essential for understanding the overall image for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rays are dra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first ray is drawn parallel to the first principle axis and then passes through (or appears to come from) one of the focal length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econd ray is drawn through the center of the lens and continues in a straight 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third ray is drawn from the other focal  point and emerges from the lens parallel to the principle ax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are an infinite number of rays, these are conveni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y Diagram for Converging Lens, p &gt; 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re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inve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335240" y="2093760"/>
            <a:ext cx="74214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y Diagram for Converging Lens, p &lt; 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virt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upr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38080" y="1933560"/>
            <a:ext cx="75438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y Diagram for Diverging Le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virt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is upr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50760" y="2017800"/>
            <a:ext cx="72788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binations of Thin Len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produced by the first lens is calculated as though the second lens were not pres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then approaches the second lens as if it had come from the image of the first l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e image of the first lens is treated as the object of the second l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age formed by the second lens is the final image of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bination of Thin Lense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image formed by the first lens lies on the back side of the second lens, then the image is treated at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irtual obje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the second l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 will be neg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verall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gnifi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product of the magnification of the separate l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bination of Thin Lenses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2114640"/>
            <a:ext cx="853452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at Mirr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st possible mi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ties of the image can be determined by geome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ray starts at P, follows path PQ and reflects back on itse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cond ray follows path PR and reflects according to the Law of Ref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46879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s and Mirror Aberr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he basic problems is the imperfect quality of the im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ly the result of defects in shape and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mmon types of aberrations ex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herical Aber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ults from the focal points of light rays far from the principle axis are different from the focal points of rays passing near the ax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a mirror, parabolic shapes can be used to correct for spherical aber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343400" y="2506680"/>
            <a:ext cx="46116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romatic Aberr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40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fferent wavelengths of light refracted by a lens focus at different poi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olet rays are refracted more than red r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ocal length for red light is greater than the focal length for violet l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romatic aberration can be minimized by the use of a combination of converging and diverging len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267080" y="2438280"/>
            <a:ext cx="46119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 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,8,11,16,27,28,29,36,38,4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4,5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perties of the Image Formed by a Flat Mirr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mage is as far behind the mirror as the object is in fro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 = 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mage is unmagnifi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mage height is the same as the object heigh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’ = h and M =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mage is virt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mage is upr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has the same orientation as the 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is an apparent left-right reversal in the im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Application – Day and Night Settings on Auto Mirrors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the daytime setting, the bright beam of reflected light is directed into the driver’s e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the nighttime setting, the dim beam of reflected light is directed into the driver’s eyes, while the bright beam goes elsew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1814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herical Mirr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pherical mirr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as the shape of a segment of a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cave spherical mirr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as the silvered surface of the mirror on the inner, or concave, side of the cur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nvex spherical mirr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as the silvered surface of the mirror on the outer, or convex, side of the cur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cave Mirror, Not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irror has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adius of curvatu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enter of curvatu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point 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V is the center of the spherical seg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ine drawn from C to V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rinciple ax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mi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343400" y="2057400"/>
          <a:ext cx="46116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057400"/>
                    <a:ext cx="46116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9:10:38Z</dcterms:created>
  <dc:creator>Brooks/Cole</dc:creator>
  <dc:description/>
  <dc:language>en-US</dc:language>
  <cp:lastModifiedBy>DCPS</cp:lastModifiedBy>
  <dcterms:modified xsi:type="dcterms:W3CDTF">2007-02-26T18:25:10Z</dcterms:modified>
  <cp:revision>22</cp:revision>
  <dc:subject/>
  <dc:title>Chapter 23</dc:title>
</cp:coreProperties>
</file>